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544-971F-463D-BF97-DE3A9003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D09-EFB4-4CC3-9D53-44B34263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9BE-75A3-44F8-9830-BB28150E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BC2-F3EF-44C0-9F95-F2737B19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BB9-E416-4482-AF38-FAD20D0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23A-5144-4B19-97A2-9F572A5A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828-B036-43D8-8005-2E708BBA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CC7-74F6-4234-AB61-FFA7A313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F5E-D046-4DD9-83C3-3FF40059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AAE-8E82-40CF-960A-5B1A53F6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F5C-9D96-4A14-B5BE-FC3DE28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C10-9856-4757-858D-84FE3A61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37AA-A139-4F4C-999B-4EC17060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8680" y="1253880"/>
            <a:ext cx="843768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grating Web 2.0 Ap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o the Elementary Classro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7160" y="5735520"/>
            <a:ext cx="662292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yl Capozz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9800" y="3745080"/>
            <a:ext cx="66247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990000"/>
                </a:solidFill>
                <a:latin typeface="Arial"/>
              </a:rPr>
              <a:t>"If you build it and let them build it too,  they will com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uthentic Assessmen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reating student ePortfolios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ik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reate an online web presence that can be edited by other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Clarkson's Museum Box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create online informational cubes for authentic assessmen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Not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simple online webpag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re Online Re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ources by category and subjec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eb 2.0 Guru Wik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y Contact Inf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ccapozzoli@caiu.org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Effective Tech. Integration Work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233000"/>
            <a:ext cx="96710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s 21st Century instructional pract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s 21st Century Skil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rts differentiated instructional strateg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gages diverse learn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powers students - student centered and self directed learning with assist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hances instructional tasks when used effectiv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s higher order thinking activ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ytime-Anywhere learning - 24/7 Access to tools, learning and produ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laborative learning environment - simultaneous teacher and student learning and suc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sive learning community – parents, administration, pe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ow Do Students Lear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440" y="1644480"/>
            <a:ext cx="967104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ddressing student learning style pre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arning Style Invent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nventory 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nventory 2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nventory 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arning Readiness - Preassessmen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Thatqu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Mystudiy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60" y="188640"/>
            <a:ext cx="997128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nnecting With Colleagu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3560" y="1536480"/>
            <a:ext cx="96692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Join or Create Professional Learning Networks (PLN'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online classroom enviro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Classroom 2.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Net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PAEducato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K-12 PA Educa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ePa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onnect globally with other educator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TWIC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earch for other educators from around the wor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GlobalSchoolNe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ollaborative global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" y="142920"/>
            <a:ext cx="99061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unicate &amp; Collaborate with Other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reate connections to communicate locally, nationally and globally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Magpi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video conferencing with profession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Skyp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connections with others on Sk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Scriblin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instant collaborative white bo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Google Doc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Virtual Office anytime/anywhe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480" y="47592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ading and Listening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4440" y="1774440"/>
            <a:ext cx="96710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nline resources for interactive reading and audio downloa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Storyline Onlin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books read by the Screen Actors Guil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CD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International Children's Digital Librar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Lit2Go -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e audio boo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Librivox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ree audio books and m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StoryNor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free online audio boo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Youtube Ed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educational vide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</a:rPr>
              <a:t>Project Gutenberg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</a:rPr>
              <a:t>Book Glutton</a:t>
            </a:r>
            <a:r>
              <a:rPr b="0" lang="en-US" sz="2900" spc="-1" strike="noStrike" u="sng">
                <a:solidFill>
                  <a:srgbClr val="0000ff"/>
                </a:solidFill>
                <a:uFillTx/>
                <a:latin typeface="Arial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– download and upload epub books to read online, chat and annotate with others  </a:t>
            </a: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</a:rPr>
              <a:t>Epub Book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download and upload at Book Glutton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080" y="366840"/>
            <a:ext cx="10014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t Kids More Excited About Wri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1600" y="1730160"/>
            <a:ext cx="967104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riting tools to make it even more fun.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Mixboo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online interactive eboo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Blog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post topics and allow students/parents to respond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Read WriteThink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create book covers, cubes, trading cards and m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Kerpoo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free online story writing, and movie making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Persuade Sta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persuasive writing - create assignments and allow students to write and submi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iWri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writers resource for all types of wri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and sha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ClasstToo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create online games, graphic or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Mywebspir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online inspi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4440" y="301680"/>
            <a:ext cx="96710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ing or Podcasting to Respond to Conten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3560" y="2012760"/>
            <a:ext cx="966924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odcasts can be fun and engaging...Create class audio books and content reviews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Gabca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an online class channel for student responses (Phone and web base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Podbea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a free online podcast channel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uild and Improve Vocabulary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440" y="1492200"/>
            <a:ext cx="967104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ources to create and visualize vocabulary w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ordi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 visual diction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ord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ive word wall diagra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eyePlor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create vocabulary conne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Visuword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visual concept map of w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Brainyfli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image and video definitions view and ad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